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749-182D-43F5-B06B-29C0DB6103E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AE23-5CB6-4591-939F-A14EF4B2829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31E8-84F2-4741-94CF-F126AB71003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C79-D168-4DF7-A635-288D156CFF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7DD5-A2B5-42ED-82E5-AD417F7C518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85B-F048-45AD-8031-0277034A52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71B2-11CD-468E-BAC1-4837C97CDC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3CB8-F0ED-4020-813D-EA40473CA3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3890-5ED7-4DD9-A3C8-DD2882E429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67C7-1EEB-4418-83DE-77DB8BDB0FD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B0F-5345-4930-9B5C-1319859C32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2695-0598-41A7-B25B-0451D00531D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946-8F23-4676-9FC2-C0731B13B4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B96B-DBFC-4E3B-8AC1-A25F46F4B6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121B-CC37-4384-8368-3A84FDD573F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9FC6-CFA7-401E-901D-6BDC7B51AE0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C464-8F13-4742-8FCD-69C934BF93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47C2-D1D3-42AF-B837-840B6155CE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69FB-4C17-44D3-BF5D-3933600812A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868F-420D-4613-B5CF-3D829BFD71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D41-6860-47DA-A37C-64FECDCB282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C91B-4419-466C-84D2-B1AFC787D90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E039-96D5-45D3-9450-1D1E70684A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8342-3001-48CA-8012-4A99BC9277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D6F2-C620-49F6-AB8D-BB0187E8FE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B045-5D58-492B-9B17-4B1E685DF58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1C7A-D6BE-41D2-A93A-AD4CC14FE7C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D7DB-E57E-4D91-9E7C-C88C3D29DB9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1B7-CF54-4161-BF42-7067F023156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92BD-4A3E-480F-BEE8-83405940A54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CC4F-7D6B-4E83-976C-B9F50136382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CC78-E0BB-4561-98AE-890BD00C799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4C1-CE97-4138-A8B9-3BDFE3E17D3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778-7BA2-4619-B811-7A14A8058D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8FDD-DCB2-4D5F-8616-57C49DCDD68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C3E2-D35F-4991-8A57-F89C6AF080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6078-5342-432D-8614-0ACB65E7901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5231-6A1E-42A8-806C-92B1DF743A0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8EBC-2D97-438A-8C95-72723A2ACF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ACAA-7885-42D8-B6F3-D307AB12D9F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CA1E-2FB6-4F33-99CD-8EAA68E93F6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D66-E697-45D8-9D24-40EF6393FF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B4D4-7F53-4068-A24C-9E092642DE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77DA-05E6-4CD7-9EA4-8AEB3CC99F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05D-259F-4253-916F-C8071D2F845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D692-8C1F-4C7A-90C0-16C6F0AF999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0E40-2E04-4159-AAF9-3173542E204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D29-A29B-4EBC-BDB4-EB41F518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534-BEC6-4D06-9D0D-53828B10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75EA-C70F-4D8B-88CA-4B6F70FDA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918-C3D7-49CD-BB76-0556757A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E68-42A5-49E6-B98D-BF2B0E75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C67-FF71-4D4F-8043-B1CE6B7C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3B3-3948-43F1-A556-68CA61DE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F0D-90E0-40DF-A0F5-CA1E6DBE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595-251F-480C-B52F-D03B4FC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CB3E-F9A4-41E3-B852-982AE2D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887-7107-4D58-B860-DD009FA8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CF2-4D96-4C89-9A50-3BB26276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4B30-ADDB-4DA0-B03D-852E162B9EE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4000" y="1628640"/>
            <a:ext cx="7885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NUTRI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353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4-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olerable Upper intake Level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(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UL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is the highest average daily nutrient intake level that is likely to pose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o risk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of adverse health effects to almost all individuals in the general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s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used as recommended levels of in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s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re useful because of the increased use of dietary supp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and fortified f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apply to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hronic daily use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some nutrients, there may be insufficient data on which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develop a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L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11280" y="907920"/>
            <a:ext cx="8064360" cy="792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91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Using the D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ost nutrients have a set of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DIR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Usually a nutrient has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a corresponding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ost are set by age and gender and may be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influenc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pecial factors such as pregnancy and lactation in wome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data ar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sufficient to estimate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or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n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I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designa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I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judged by expert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meet the needs of all individuals i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 group, </a:t>
            </a:r>
            <a:r>
              <a:rPr b="0" i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but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based on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less data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n in establishing a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7_003"/>
          <p:cNvPicPr/>
          <p:nvPr/>
        </p:nvPicPr>
        <p:blipFill>
          <a:blip r:embed="rId1"/>
          <a:srcRect l="32098" t="1535" r="31179" b="24832"/>
          <a:stretch/>
        </p:blipFill>
        <p:spPr>
          <a:xfrm>
            <a:off x="755640" y="404640"/>
            <a:ext cx="7777080" cy="57610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Using the DRIs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ff6600"/>
                </a:solidFill>
                <a:latin typeface="Verdana"/>
              </a:rPr>
              <a:t>cont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low EAR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need to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e improved because the probability of adequacy is 50% or l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tween EAR &amp; RDA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robably need to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be improved because the probability of adequacy is less than 98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t or above RDA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adequat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bove AI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adequat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ntakes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between RDA &amp; UL</a:t>
            </a: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n be considered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no risk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for adverse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7_004"/>
          <p:cNvPicPr/>
          <p:nvPr/>
        </p:nvPicPr>
        <p:blipFill>
          <a:blip r:embed="rId1"/>
          <a:srcRect l="0" t="0" r="0" b="40937"/>
          <a:stretch/>
        </p:blipFill>
        <p:spPr>
          <a:xfrm>
            <a:off x="971640" y="692280"/>
            <a:ext cx="7543800" cy="5257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DIETARY MACRONUTR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Energy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Energy Requirements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estimated energy requirement is the averag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etary energy intake predicted to maintai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 energy balance in a healthy adult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nergy balance  occurs when calories consumed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re equal to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energy expended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Simple approxim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sedentary adults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require  ~ 25 Kcal/kg/day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68360" y="620640"/>
            <a:ext cx="79912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Energy Content of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t is calculated from the heat released by the total combustion of food in a calori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It is expressed in kilocalories (kcal, or 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The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standard conversion factor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for determining the metabolic caloric value of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fat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carbohydrate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proteins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re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9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,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and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4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Kcal/g respectively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7_005"/>
          <p:cNvPicPr/>
          <p:nvPr/>
        </p:nvPicPr>
        <p:blipFill>
          <a:blip r:embed="rId1"/>
          <a:srcRect l="0" t="0" r="0" b="18909"/>
          <a:stretch/>
        </p:blipFill>
        <p:spPr>
          <a:xfrm>
            <a:off x="2484360" y="4292640"/>
            <a:ext cx="4175280" cy="16844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sp>
        <p:nvSpPr>
          <p:cNvPr id="75" name="Rectangle 7"/>
          <p:cNvSpPr/>
          <p:nvPr/>
        </p:nvSpPr>
        <p:spPr>
          <a:xfrm>
            <a:off x="539640" y="333360"/>
            <a:ext cx="8064720" cy="79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How Energy is Used in the Body</a:t>
            </a: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Resting Metabolic Rate (RM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t is the energy expended by an individual in a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resting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(basal),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ost-absorptiv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metabolic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t represents the energy required to carry out the normal body functions as respiration, blood flow, ion transport and maintenance of cellular integ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n adults,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MR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s about   ~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1800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Kcal for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men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      (~ 70 kg)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&amp; ~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1300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Kcal for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women</a:t>
            </a:r>
            <a:r>
              <a:rPr b="1" i="1" lang="en-US" sz="1800" spc="-1" strike="noStrike">
                <a:solidFill>
                  <a:srgbClr val="006600"/>
                </a:solidFill>
                <a:latin typeface="Verdana"/>
              </a:rPr>
              <a:t> (~ 50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5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7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of the daily energy expenditure i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sedentary individual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s due to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84360" y="692280"/>
            <a:ext cx="8135640" cy="720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403280" y="1700280"/>
            <a:ext cx="6985080" cy="433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91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hermic Effect of Food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diet induced thermogenesi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t means, the production of heat by the body increases as much as 30% above the resting level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uring the digestion and absorp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Over 24 hour-periods, the thermic response to food intake may amount to about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5– 10 % of the total energ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403280" y="692280"/>
            <a:ext cx="6624720" cy="10080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50920" y="-152280"/>
            <a:ext cx="8893080" cy="68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Nutrients</a:t>
            </a: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are constituents of food  that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v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energy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&amp;  </a:t>
            </a:r>
            <a:r>
              <a:rPr b="1" lang="en-US" sz="2400" spc="-1" strike="noStrike" u="sng">
                <a:solidFill>
                  <a:srgbClr val="006600"/>
                </a:solidFill>
                <a:uFillTx/>
                <a:latin typeface="Verdana"/>
              </a:rPr>
              <a:t>essential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6600"/>
                </a:solidFill>
                <a:latin typeface="Verdana"/>
              </a:rPr>
              <a:t>necessary to sustain normal bod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Macronutrients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carbohydrates, fats &amp; protein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ssential molecule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(essential amino acids &amp; essential fatty ac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Micro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provide essential molecules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vitamins &amp; minerals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50920" y="85212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3-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Physic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uscular activity provides the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greatest variation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in energy expendi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amount of energy consumed depends on the duration and intensity of the exer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In gener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sedentary person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quires ~ 30 % more than 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highly active individual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may require 100% or more calories above R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7360" y="777960"/>
            <a:ext cx="7920000" cy="68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27_006"/>
          <p:cNvPicPr/>
          <p:nvPr/>
        </p:nvPicPr>
        <p:blipFill>
          <a:blip r:embed="rId1"/>
          <a:srcRect l="2472" t="1554" r="2133" b="22759"/>
          <a:stretch/>
        </p:blipFill>
        <p:spPr>
          <a:xfrm>
            <a:off x="1476360" y="587520"/>
            <a:ext cx="641196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MDRs are defined as a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range of intak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for a particu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cronutrient that is associated w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duced risk of chronic dise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viding adequate amounts of essential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AMDRs</a:t>
            </a: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for adults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4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6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2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–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10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35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%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f their total calories from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395280" y="692280"/>
            <a:ext cx="8209080" cy="734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A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cceptable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M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cronutrient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D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istribution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R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nges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(AMD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851040"/>
            <a:ext cx="835344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MDR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represents a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to avoid risks associated with excess consumption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of any particular macronutr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Very high FAT diet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(esp.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at. fa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) is associated with: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 Weight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- Increased LDL cholestero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- Increases the risk of coronary heart disease (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Very high CARBOHYDRATE diets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re associated with: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duction of HDL cholestero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2- Increase in triglycerid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3- Increase risk of coronary heart disease (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PROTEIN intakes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ccording to AMDR en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 adequate supply of amino acids for tissue growt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intenance and 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68360" y="692280"/>
            <a:ext cx="7991280" cy="1224000"/>
          </a:xfrm>
          <a:prstGeom prst="rect">
            <a:avLst/>
          </a:prstGeom>
          <a:noFill/>
          <a:ln w="9360">
            <a:solidFill>
              <a:srgbClr val="cc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shsaleh\Documents\lippincot photos\c27\27_007.jpg"/>
          <p:cNvPicPr/>
          <p:nvPr/>
        </p:nvPicPr>
        <p:blipFill>
          <a:blip r:embed="rId1"/>
          <a:srcRect l="23485" t="0" r="22739" b="10529"/>
          <a:stretch/>
        </p:blipFill>
        <p:spPr>
          <a:xfrm>
            <a:off x="1619280" y="1628640"/>
            <a:ext cx="6091200" cy="48247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539640" y="404640"/>
            <a:ext cx="799308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AMDRs</a:t>
            </a:r>
            <a:r>
              <a:rPr b="1" i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for adults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229600" cy="24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DIETARY MACRONUTR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BIOLOGIC PROPERTIES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The incidence of a number of chronic diseases are significantly influenced by the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kind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and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amount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of nutrients consum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Verdana"/>
              </a:rPr>
              <a:t>The role of the dietary fats and the risk of coronary heart diseases (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104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Die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A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Simple Suga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Monosaccharid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Glucose &amp; fructose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principal monosaccharides in f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Fre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glucose &amp; fruct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available in fruits &amp; bee h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isaccharid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Sucr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(glucose + fructose): 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able sugar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olass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Lactos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glucose + galactose):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Maltos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(glucose + glucose) :  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malt liqu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B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Complex Carbohydrates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(Polysacchari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Starch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are polymers of glucose &amp; do not have a sweet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a complex carbohydrate that is found in abundance in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plant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at &amp; other grains, potatoes, peas, beans &amp; veget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1773000"/>
            <a:ext cx="83484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C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Dietary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Fi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nondigestible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carbohydrates &amp; is present in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plant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provides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little energy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but has several </a:t>
            </a:r>
            <a:r>
              <a:rPr b="0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beneficial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eff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oluble fibe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refers to fibers that form a viscous gel when mixed with a liquid e.g pectins, gu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Insoluble fibe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passes through the digestive tract largely intact e.g cellu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0814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7_001"/>
          <p:cNvPicPr/>
          <p:nvPr/>
        </p:nvPicPr>
        <p:blipFill>
          <a:blip r:embed="rId1"/>
          <a:srcRect l="11191" t="0" r="10272" b="17425"/>
          <a:stretch/>
        </p:blipFill>
        <p:spPr>
          <a:xfrm>
            <a:off x="1092240" y="549360"/>
            <a:ext cx="7095960" cy="61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4000" y="1700280"/>
            <a:ext cx="84960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Functions of dietary fi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duces constipation &amp; hemorrhoids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Fiber adds to the bulk of diet as it can adsorb 10- 15 times its own weight water drawing fluid into the lumen of the intestine and increase bowel motility, thus reducing exposure of gut to carcinoge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elays gastric empt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ich can result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i- sensation of full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ii-reduced peak of blood glucose following a m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3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ower plasma LDL cholesterol (with reducing risk of C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By decreasing absorption of cholesterol &amp; other f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So, it increases fecal loss of cholesterol &amp; interfering with bile ac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reabsor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42472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Recommended daily intake of fiber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(A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25 grams for wo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38 grams for 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(~ 40 grams /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Amount of fiber in our diet has to be Increased than current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consumed (for example: American diets contains only  ~ 11 grams/da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5976720" cy="50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Some carbohydrate-containing foods produce a rapid rise  followed by a steep fall in blood glucose concentr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Verdana"/>
              </a:rPr>
              <a:t>wherea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006600"/>
                </a:solidFill>
                <a:latin typeface="Verdana"/>
              </a:rPr>
              <a:t>others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result in gradual rise followed by slow dec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The Glycemic Index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is defined as the area under the blood glucose curves seen after ingestion of meal with carbohydrate-rich food, compared with the area under the blood glucose curve after a meal consisting of the </a:t>
            </a:r>
            <a:r>
              <a:rPr b="0" lang="en-US" sz="1400" spc="-1" strike="noStrike" u="sng">
                <a:solidFill>
                  <a:srgbClr val="006600"/>
                </a:solidFill>
                <a:uFillTx/>
                <a:latin typeface="Verdana"/>
              </a:rPr>
              <a:t>same amount of carbohydrates</a:t>
            </a:r>
            <a:r>
              <a:rPr b="0" lang="en-US" sz="1400" spc="-1" strike="noStrike">
                <a:solidFill>
                  <a:srgbClr val="006600"/>
                </a:solidFill>
                <a:latin typeface="Verdana"/>
              </a:rPr>
              <a:t> in the form of glucose or white bread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ood with low glycemic index</a:t>
            </a:r>
            <a:r>
              <a:rPr b="0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tends to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create sense of satiety over a longer period of ti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100000"/>
              </a:lnSpc>
              <a:spcBef>
                <a:spcPts val="400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&amp; may help to limit caloric int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5236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&amp; Blood Gluc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27_017"/>
          <p:cNvPicPr/>
          <p:nvPr/>
        </p:nvPicPr>
        <p:blipFill>
          <a:blip r:embed="rId1"/>
          <a:srcRect l="11413" t="0" r="12241" b="5504"/>
          <a:stretch/>
        </p:blipFill>
        <p:spPr>
          <a:xfrm>
            <a:off x="6386400" y="1916280"/>
            <a:ext cx="2506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0240" y="1916280"/>
            <a:ext cx="85741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rbohydrates are </a:t>
            </a: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not essential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utrients, beca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arbon skeletons of amino acids can be converted into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absence of dietary carbohydrate 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egradation of body proteins wh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stituent amino acids provide the carbon skeleton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glucone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2520" y="58536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s set at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130 g/day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for adults &amp; children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mount of glucose used by carbohydrate dependent t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as brain &amp; RBCs). This level of intake is usually exceeded to meet energy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dults should consume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45 – 65 % of their total calori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from carbohydrat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Added sugar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should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t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epresent more than 25%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of total energy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sugar may displace nutrient-rich foods from the diet, potentially leading to deficiencies of certain micronutrients (as vitamins &amp; miner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7964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trary to popular belief,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bohydrat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are not inherently fattening as They yield 4 kcal/g (the same as protein and less than one half that of fat. Carbohydrates result i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fat synthesis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only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when  consumed in excess of body needs of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trary to folklore, diets high in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sucros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do not lea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abetes or hypoglycemia but Excess sucrose ingestion may increase risk of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dental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aries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particularly in the absence of fluorid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Carbohydrates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Simple Sugars &amp;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9640" y="1844640"/>
            <a:ext cx="8229600" cy="2160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Die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Verdana"/>
              </a:rPr>
              <a:t>Prote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413000"/>
            <a:ext cx="8424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protein in food provide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mino aci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10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the 20 amino acids needed for the synthesis of body proteins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.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i.e. can not be synthesized in humans at an adequat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8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these 10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 at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all tim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Arginin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d </a:t>
            </a:r>
            <a:r>
              <a:rPr b="1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histidine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are required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during period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of rapid tissue growth as in childhood and recovery from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The quality of diet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is a measure of its ability to provide the essential amino acids required for tissue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The protein quality is evaluated by the following standar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rotein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D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gestibility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C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orrected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mino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id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PDCAAS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ich is based on  1) the presence of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ssential amino acid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) th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igestibilit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highest possible score i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1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mino acid score provides a method to balance intakes of poorer-quality proteins (vegetarians) with high-quality dietary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Qualit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27_018"/>
          <p:cNvPicPr/>
          <p:nvPr/>
        </p:nvPicPr>
        <p:blipFill>
          <a:blip r:embed="rId1"/>
          <a:srcRect l="0" t="0" r="0" b="40970"/>
          <a:stretch/>
        </p:blipFill>
        <p:spPr>
          <a:xfrm>
            <a:off x="1908000" y="620640"/>
            <a:ext cx="5983560" cy="3672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941400" y="4941720"/>
            <a:ext cx="7591320" cy="703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Protein Digestibility Corrected Amino Acid Sc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PDCAAS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As a 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physician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!!</a:t>
            </a:r>
            <a:br>
              <a:rPr sz="4000"/>
            </a:b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Why should I study </a:t>
            </a:r>
            <a:r>
              <a:rPr b="1" lang="en-US" sz="4000" spc="-1" strike="noStrike">
                <a:solidFill>
                  <a:srgbClr val="ff6600"/>
                </a:solidFill>
                <a:latin typeface="Verdana"/>
              </a:rPr>
              <a:t>nutrition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??</a:t>
            </a:r>
            <a:r>
              <a:rPr b="1" lang="en-US" sz="4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233172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 physician needs to know kinds &amp; amount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macronutrients &amp; micronutr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requir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Maintain optimal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Verdana"/>
              </a:rPr>
              <a:t>Prevent chronic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nimal Sources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ith a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high qualit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they contain all essential amino acids in proportions similar to those required for synthesis of human tissue proteins (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xcept for gelatin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epared from animal collagen which is of low biological value as a result of deficiencies in several essential amino aci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lant Sources 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from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at, corn, rice &amp; b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ith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lower quality</a:t>
            </a:r>
            <a:r>
              <a:rPr b="0" lang="ar-SA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n of animal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from different plant sources may be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combin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in a  way that the result is equivalent in nutritional value to animal prote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Sourc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balance occurs when the amount of nitrog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onsu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equals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t of the nitrog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xcre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in urine, sweat and fae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ositive nitroge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intake exceeds nitrogen excretion (los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ccurs in situations in which tissue growth occurs as 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hildren, pregnancy or during recovery from an emaciating ill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Negative nitrogen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nitrogen loss is exceeds nitrogen int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occurs with inadequate dietary protein, lack of essential amino acids, or during physiologic stresses as trauma, burns, illness  or surg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Nitrogen Balan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6960" y="1854000"/>
            <a:ext cx="85168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 greater the proportion of animal protein included in diet, the less the protein is requ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Adults: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0.8 g/kg/day (proteins of mixed biological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Children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2 g/kg/da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eople who exercise on a regular basi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(athletes):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g/kg/da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egnan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&amp;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actating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women: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require up to 30 g/day in addition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their bas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Requiremen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re are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o physiologic advantag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o the consumption of more protein than the 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consumed in excess of the body's needs is </a:t>
            </a:r>
            <a:r>
              <a:rPr b="0" lang="en-US" sz="1800" spc="-1" strike="noStrike" u="sng">
                <a:solidFill>
                  <a:srgbClr val="006600"/>
                </a:solidFill>
                <a:uFillTx/>
                <a:latin typeface="Verdana"/>
              </a:rPr>
              <a:t>deaminated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and the resulting carbon skeleton metabolized to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1-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</a:t>
            </a: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or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2- acetyl CoA for fatty acid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Consumption of excess protei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8569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intake of the carbohydrates is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low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amino acid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aminated to provide carbon skeleton for the synthesis of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at is needed for energy production especially to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gluconeogenes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f carbohydrates intake is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less than 130 g/day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a great amoun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s are metabolized to provide precursors of gluconeogene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protein lo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herefore,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carbohydrate is considered to be 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protein-sparing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s it allows amino acids to be used for repair and maintenance of tiss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protein instead of being used for gluconeogene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Protein sparing effect of carbohydra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1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lated to a nutritional statu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:      inadequate intake of prote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common in poor countries)               and/or energy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Related to a medical condition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: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Chronic ill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(common in developed countries)       Major tra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evere infec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jor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Affected individuals show a variety of symptoms, including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depressed immune system with a reduced ability to resist infe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Death due to a secondary infection is comm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6600"/>
                </a:solidFill>
                <a:latin typeface="Verdana"/>
              </a:rPr>
              <a:t>Two extreme forms of malnutrition are observ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KWASHIORK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6600"/>
                </a:solidFill>
                <a:latin typeface="Verdana"/>
              </a:rPr>
              <a:t>MARAS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425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1-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KWASHIORK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Kwashiorkor occurs wh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protein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rivation is relative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greater than the reduction in total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alories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Frequent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hildren after weaning at about one year of ag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,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when their diet consists predominantly of carbohyd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ypical sympto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Decreased blood albumin concent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Ed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tunted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Skin le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igmentated 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orex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nlarged fatty l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44944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2- 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MARAS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rasmus occurs whe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alorie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deprivation is relatively greater than the reduction of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Marasmus usually occurs in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children younger than one year of age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hen the mother's breast milk is supplemented with native cereals which are usually deficient in protein and cal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Typical sympto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rrested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extreme muscular w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weaknes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6600"/>
                </a:solidFill>
                <a:latin typeface="Verdana"/>
              </a:rPr>
              <a:t>anem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00"/>
                </a:solidFill>
                <a:latin typeface="Verdana"/>
              </a:rPr>
              <a:t>           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No edema or changes in plasma proteins (albu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solidFill>
            <a:srgbClr val="ccff99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       </a:t>
            </a:r>
            <a:br>
              <a:rPr sz="2800"/>
            </a:b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 Protein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cont.   </a:t>
            </a:r>
            <a:br>
              <a:rPr sz="2800"/>
            </a:br>
            <a:r>
              <a:rPr b="0" lang="en-US" sz="2400" spc="-1" strike="noStrike" u="sng">
                <a:solidFill>
                  <a:srgbClr val="ff6600"/>
                </a:solidFill>
                <a:uFillTx/>
                <a:latin typeface="Verdana"/>
              </a:rPr>
              <a:t>Protein-Calorie Malnutrition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651640" y="3406680"/>
            <a:ext cx="302400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5840" y="1120680"/>
            <a:ext cx="86425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Dietary Reference Intakes (</a:t>
            </a:r>
            <a:r>
              <a:rPr b="1" i="1" lang="en-US" sz="2800" spc="-1" strike="noStrike">
                <a:solidFill>
                  <a:srgbClr val="ff6600"/>
                </a:solidFill>
                <a:latin typeface="Verdana"/>
              </a:rPr>
              <a:t>DRIs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They are estimates of the amounts of nutrients required to prevent deficiencies &amp; maintain optimal health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replace and expand on 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Recommended D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Allowanc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(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), published in 1941 (with periodic revisions)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establish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upper limits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n the consumption of some nutrients and incorporate the 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ole of nutrients in lifelong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health, going beyond deficiency disease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Both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DRIs</a:t>
            </a:r>
            <a:r>
              <a:rPr b="1" i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and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RDAs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Verdana"/>
              </a:rPr>
              <a:t>refer to long-term average daily nutrient intake, because it is not necessary to consume the full RDA every day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06440" y="981000"/>
            <a:ext cx="8424720" cy="649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Verdana"/>
              </a:rPr>
              <a:t>Dietary Reference Intakes (D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The </a:t>
            </a:r>
            <a:r>
              <a:rPr b="1" i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DRIs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consist of four dietary reference standards for the intake of nutrients designed for specific age-groups, physiologic state, and se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27_002"/>
          <p:cNvPicPr/>
          <p:nvPr/>
        </p:nvPicPr>
        <p:blipFill>
          <a:blip r:embed="rId1"/>
          <a:stretch/>
        </p:blipFill>
        <p:spPr>
          <a:xfrm>
            <a:off x="2309760" y="2565360"/>
            <a:ext cx="4800600" cy="37051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560" y="-1000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1-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Estimated Average Requirement (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s the average daily nutrient intake level estimated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meet the nutrient require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one half the healthy individuals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n a particular life stage and gend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t is useful in estimating the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actual requirements </a:t>
            </a: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groups &amp; individ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95280" y="115920"/>
            <a:ext cx="8353440" cy="936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2200320" y="4191120"/>
            <a:ext cx="47433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5000" y="1628280"/>
            <a:ext cx="88311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s the average daily dietary intake level that is sufficient to meet the nutrient requirements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early all individuals (97 – 98 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Verdana"/>
              </a:rPr>
              <a:t>in a life stage and gender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s </a:t>
            </a: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no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the minimal requirement for healthy individua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BUT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t is set to provide a </a:t>
            </a:r>
            <a:r>
              <a:rPr b="1" lang="en-US" sz="2000" spc="-1" strike="noStrike" u="sng">
                <a:solidFill>
                  <a:srgbClr val="ff6600"/>
                </a:solidFill>
                <a:uFillTx/>
                <a:latin typeface="Verdana"/>
              </a:rPr>
              <a:t>margin of safety for most individuals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serves as the base for setting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If SD of the of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is available and the requirement for the nutrien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normally distributed, the </a:t>
            </a: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RDA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 is set at two SDs above the </a:t>
            </a: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EAR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6600"/>
                </a:solidFill>
                <a:latin typeface="Verdana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6600"/>
                </a:solidFill>
                <a:uFillTx/>
                <a:latin typeface="Verdana"/>
              </a:rPr>
              <a:t>RDA   =   EAR   +   2 SD 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250920" y="333360"/>
            <a:ext cx="8642160" cy="10933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Verdana"/>
              </a:rPr>
              <a:t>2-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Recommended Dietary Allowances 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(R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3394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3-</a:t>
            </a:r>
            <a:r>
              <a:rPr b="1" lang="en-US" sz="2000" spc="-1" strike="noStrike">
                <a:solidFill>
                  <a:srgbClr val="ff66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Adequate Intake (A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AI is set instead of RDA if sufficient scientific evidence is </a:t>
            </a:r>
            <a:r>
              <a:rPr b="1" lang="en-US" sz="2000" spc="-1" strike="noStrike" u="sng">
                <a:solidFill>
                  <a:srgbClr val="006600"/>
                </a:solidFill>
                <a:uFillTx/>
                <a:latin typeface="Verdana"/>
              </a:rPr>
              <a:t>not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 available to calculate an EAR or 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Is based on estimates of nutrient intake by a group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</a:rPr>
              <a:t>apparently healthy people that are assumed to be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For example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6600"/>
                </a:solidFill>
                <a:latin typeface="Verdana"/>
              </a:rPr>
              <a:t>Adequate Intake (AI) 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young infants (whom human milk i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recommended sole source of food for the first 4-6 months), is bas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on the estimated daily mean nutrient intake supplied by human mil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for healthy full term infants who are exclusively breast-f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539640" y="549360"/>
            <a:ext cx="8136000" cy="720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1:13:58Z</dcterms:created>
  <dc:creator>aa</dc:creator>
  <dc:description/>
  <dc:language>en-US</dc:language>
  <cp:lastModifiedBy>Jamal Younis</cp:lastModifiedBy>
  <dcterms:modified xsi:type="dcterms:W3CDTF">2016-09-18T11:07:14Z</dcterms:modified>
  <cp:revision>584</cp:revision>
  <dc:subject/>
  <dc:title>الشريحة 1</dc:title>
</cp:coreProperties>
</file>